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6DEF-830D-4B3F-97A5-DACC1903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716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716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716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788B-74EC-4196-A1DF-DF6982D4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716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716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585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716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9585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7735-6A27-41B3-9A97-35BC68B8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6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9426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9132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716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9426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9132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0BFA-4B7A-4BA4-B5ED-4A985B72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32D3-2685-4754-93DB-E61CE03B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6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CBE7-D28B-484F-82BE-CC15C88D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6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6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E21D-B079-4181-9BD0-2A4F8F47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6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6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585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4A7D-CFED-4B09-8FFF-B907F674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6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941A-DC2E-47E0-9D8D-C7A6F3BE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6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99EF-09E7-4432-953B-6BE3EE7B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6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6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585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6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6BC1-86CC-41DD-B65A-B4A0B94E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6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716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1C60-212F-4D27-918D-AD140AE4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6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6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585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9585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1B8F-69F6-4D07-A65F-3B547EC5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6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6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9585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6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9A46-C9ED-4DEA-99FF-9925AACE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6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6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6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5B60-2537-4202-93A6-A318C36D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6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9585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6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9585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AED3-9158-40F7-9740-68F6DB55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6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6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9426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132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6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9426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9132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67E3-15AF-4E2D-A166-095E50F9D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6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6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4F29-AFE2-4F4C-93E1-55515B42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6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585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C548-6577-4B9D-82F7-141A9401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4E45-13CC-4314-8DA7-08AA6A35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716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440E-FE7D-40CF-9A3A-1CDDF2A5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6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6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9585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716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EFDB-A26C-469B-8D02-22A67C06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6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16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85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585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74B9-745C-4FC6-9392-714D57A0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716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716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585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716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9FD0-CA65-452E-956E-6F9613F1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6858000" cy="9143280"/>
            <a:chOff x="0" y="0"/>
            <a:chExt cx="6858000" cy="914328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6858000" cy="9143280"/>
              <a:chOff x="0" y="0"/>
              <a:chExt cx="6858000" cy="914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6858000" cy="81252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812520"/>
                <a:ext cx="6858000" cy="833076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1984680" cy="7646400"/>
              <a:chOff x="0" y="0"/>
              <a:chExt cx="1984680" cy="7646400"/>
            </a:xfrm>
          </p:grpSpPr>
          <p:pic>
            <p:nvPicPr>
              <p:cNvPr id="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040" y="0"/>
                <a:ext cx="635760" cy="6671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268920" y="0"/>
                <a:ext cx="95040" cy="7646400"/>
                <a:chOff x="268920" y="0"/>
                <a:chExt cx="95040" cy="764640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68920" y="0"/>
                  <a:ext cx="95040" cy="1805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68920" y="1777680"/>
                  <a:ext cx="95040" cy="586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734040"/>
                <a:ext cx="1984680" cy="1692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16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Jester"/>
              </a:rPr>
              <a:t>Click to edit the title text format</a:t>
            </a:r>
            <a:endParaRPr b="0" lang="en-US" sz="28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9716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9712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28004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53722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6201-B44B-4B5D-B07D-EDA3D2CFEBB5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6858000" cy="9143280"/>
            <a:chOff x="0" y="0"/>
            <a:chExt cx="6858000" cy="914328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6858000" cy="9143280"/>
              <a:chOff x="0" y="0"/>
              <a:chExt cx="6858000" cy="914328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6858000" cy="338652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386520"/>
                <a:ext cx="6858000" cy="575676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194040" y="0"/>
              <a:ext cx="809280" cy="667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771480" y="0"/>
              <a:ext cx="115200" cy="7646760"/>
              <a:chOff x="771480" y="0"/>
              <a:chExt cx="115200" cy="7646760"/>
            </a:xfrm>
          </p:grpSpPr>
          <p:sp>
            <p:nvSpPr>
              <p:cNvPr id="57" name=""/>
              <p:cNvSpPr/>
              <p:nvPr/>
            </p:nvSpPr>
            <p:spPr>
              <a:xfrm>
                <a:off x="771480" y="0"/>
                <a:ext cx="115200" cy="180504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71480" y="1777680"/>
                <a:ext cx="115200" cy="5869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3250800"/>
              <a:ext cx="5112360" cy="3387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28880" y="14666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Jester"/>
              </a:rPr>
              <a:t>Click to edit the title text format</a:t>
            </a:r>
            <a:endParaRPr b="0" lang="en-US" sz="28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2C00-77B8-4C9F-9B38-F600A1B70195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1447920" cy="134316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1143000" y="1936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Jester"/>
              </a:rPr>
              <a:t>C.I.N.C.H. &amp; Allies Against Asthma</a:t>
            </a:r>
            <a:br>
              <a:rPr sz="2800"/>
            </a:br>
            <a:r>
              <a:rPr b="0" lang="en-US" sz="2800" spc="-1" strike="noStrike">
                <a:solidFill>
                  <a:srgbClr val="ff00ff"/>
                </a:solidFill>
                <a:latin typeface="Jester"/>
              </a:rPr>
              <a:t>present…</a:t>
            </a:r>
            <a:br>
              <a:rPr sz="2800"/>
            </a:br>
            <a:r>
              <a:rPr b="0" lang="en-US" sz="2800" spc="-1" strike="noStrike">
                <a:solidFill>
                  <a:srgbClr val="ff00ff"/>
                </a:solidFill>
                <a:latin typeface="Jester"/>
              </a:rPr>
              <a:t>Healthy Kids Kit for Asthma</a:t>
            </a:r>
            <a:endParaRPr b="0" lang="en-US" sz="2800" spc="-1" strike="noStrike">
              <a:solidFill>
                <a:srgbClr val="ff00ff"/>
              </a:solidFill>
              <a:latin typeface="Jester"/>
            </a:endParaRPr>
          </a:p>
        </p:txBody>
      </p:sp>
      <p:sp>
        <p:nvSpPr>
          <p:cNvPr id="103" name=""/>
          <p:cNvSpPr/>
          <p:nvPr/>
        </p:nvSpPr>
        <p:spPr>
          <a:xfrm>
            <a:off x="1203480" y="2708280"/>
            <a:ext cx="336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1828800"/>
            <a:ext cx="3597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Lucida Sans"/>
              </a:rPr>
              <a:t>Join us for a time of discovery as we empower our church community.  This information will add value to each member, leading us to be “Health Smart” families!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3352680"/>
            <a:ext cx="2911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ff"/>
              </a:buClr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Hobo"/>
                <a:ea typeface="Times New Roman"/>
              </a:rPr>
              <a:t>Almost 20,000 children in Hampton Roads have asthma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ff"/>
              </a:buClr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ff"/>
              </a:buClr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Hobo"/>
                <a:ea typeface="Times New Roman"/>
              </a:rPr>
              <a:t>Children account for almost half of all hospitalizations due to asthma in Hampton Roads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ff"/>
              </a:buClr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ff"/>
              </a:buClr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Hobo"/>
                <a:ea typeface="Times New Roman"/>
              </a:rPr>
              <a:t>Asthma doesn’t have to control a child’s life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ff"/>
              </a:buClr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ff"/>
              </a:buClr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Hobo"/>
                <a:ea typeface="Times New Roman"/>
              </a:rPr>
              <a:t>We’re working together to help our children breathe better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19320" y="3352680"/>
            <a:ext cx="1981080" cy="191160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1143000" y="6019920"/>
            <a:ext cx="5105520" cy="13107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Times New Roman"/>
              </a:rPr>
              <a:t>Location:</a:t>
            </a:r>
            <a:r>
              <a:rPr b="0" lang="en-US" sz="1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</a:rPr>
              <a:t>	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Times New Roman"/>
              </a:rPr>
              <a:t>Date:</a:t>
            </a:r>
            <a:r>
              <a:rPr b="0" lang="en-US" sz="1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</a:rPr>
              <a:t>	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Times New Roman"/>
              </a:rPr>
              <a:t>Time:</a:t>
            </a:r>
            <a:r>
              <a:rPr b="0" lang="en-US" sz="1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</a:rPr>
              <a:t>	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7813800"/>
            <a:ext cx="131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7661160"/>
            <a:ext cx="342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Times New Roman"/>
              </a:rPr>
              <a:t>Consortium for Infant and Child Health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Times New Roman"/>
              </a:rPr>
              <a:t>Allies Against Asthma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Times New Roman"/>
              </a:rPr>
              <a:t>757-668-6459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7772400"/>
            <a:ext cx="1295280" cy="824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Times New Roman"/>
              </a:rPr>
              <a:t>CHURCH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Times New Roman"/>
              </a:rPr>
              <a:t>LOGO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962520" y="8229600"/>
            <a:ext cx="1828800" cy="638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943600" y="8153280"/>
            <a:ext cx="673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0T14:54:45Z</dcterms:created>
  <dc:creator>Shelley Taylor-Donahue</dc:creator>
  <dc:description/>
  <dc:language>en-US</dc:language>
  <cp:lastModifiedBy>Shelley Stoll</cp:lastModifiedBy>
  <dcterms:modified xsi:type="dcterms:W3CDTF">2006-03-20T16:00:39Z</dcterms:modified>
  <cp:revision>4</cp:revision>
  <dc:subject/>
  <dc:title>C.I.N.C.H. &amp; Allies Against Asthma present… Healthy Kids Asthma Kit</dc:title>
</cp:coreProperties>
</file>