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719B-EF73-4126-8CF1-3B48DD448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D140-6CE8-4AD7-B086-95F8E3FD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7535-1967-431D-86F2-6D08B4089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43D6-7C2E-459D-AF9B-F8052483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EFAB-2261-4FDB-92A3-8937952C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0A08-21DC-4FBC-8F06-EBB82845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C494-EE0E-4D9E-AEF1-E0039D35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23A0-D749-4E28-8CE0-2FAA000A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3415-73D5-4B2D-BC3F-EE24FF6A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7363-0831-441B-9363-167F9F5E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90F6-72A3-4645-815F-AD52D1BD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DFFA-3AE1-46E8-B1CB-174D8090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FB83-C537-4A57-91A3-CD7B9FDDD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5638680"/>
            <a:ext cx="358128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nday, April 26,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:00 am – 12:00 p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tara CarePlex Hos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conf. rms. B &amp;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000 Coliseum D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ampton, Virgi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286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ester"/>
              </a:rPr>
              <a:t>Putting it All Together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ester"/>
              </a:rPr>
              <a:t>Creating a Plan for Reducing Environmental Asthma Triggers in Public Ho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819520"/>
            <a:ext cx="3048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Now that you have new information about childhood asthma and asthma triggers in your communities, join us for an action-oriented workshop to do something about i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7391520"/>
            <a:ext cx="6858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ootlight MT Light"/>
              </a:rPr>
              <a:t>It’s FREE!  Breakfast will be serve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ootlight MT Light"/>
              </a:rPr>
              <a:t>Residents, please contact your property manager for det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ootlight MT Light"/>
              </a:rPr>
              <a:t>Registration forms can be FAXed to Shelley Taylor-Donahue at 668-6475 or call 668-6487 to register.</a:t>
            </a:r>
            <a:r>
              <a:rPr b="1" lang="en-US" sz="1200" spc="-1" strike="noStrike">
                <a:solidFill>
                  <a:srgbClr val="000000"/>
                </a:solidFill>
                <a:latin typeface="Footlight MT Light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is event is sponsored by Allies Against Asthma and local Housing Authorities throughout Hampton Road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46280" y="651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1295280" cy="118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228600" y="8389800"/>
          <a:ext cx="352440" cy="31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8389800"/>
                    <a:ext cx="352440" cy="3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53720" y="8686800"/>
            <a:ext cx="51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IN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248520" y="84582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868680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he lead agency for CINCH is the Center for Pediatric Research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 joint program of Children’s Hospital of The King’s Daughters &amp; Eastern Virginia Medical Scho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152280" y="5867280"/>
            <a:ext cx="1495440" cy="1514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581280" y="2819520"/>
            <a:ext cx="3124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Become an active member of your city’s team to reduce environmental asthma triggers in your public housing communitie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28954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4724280" y="4800600"/>
            <a:ext cx="18036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14:24:58Z</dcterms:created>
  <dc:creator>Shelley Taylor-Donahue</dc:creator>
  <dc:description/>
  <dc:language>en-US</dc:language>
  <cp:lastModifiedBy>Shelley Stoll</cp:lastModifiedBy>
  <dcterms:modified xsi:type="dcterms:W3CDTF">2006-03-20T16:41:36Z</dcterms:modified>
  <cp:revision>27</cp:revision>
  <dc:subject/>
  <dc:title>PowerPoint Presentation</dc:title>
</cp:coreProperties>
</file>