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491-A347-4E2A-A2D1-51607623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86F-6342-462F-9111-9382185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8EF-4E48-4117-AC43-6132865E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C0F-4327-4230-B7AC-F8D8CEC4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F19-32DB-4DEF-9F24-CE4AA64D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D4C-CBA4-4D73-B32D-5809586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878-87F1-43EC-849A-0EE2B2F3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CE0-AD11-46C7-AB81-8D803DD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AAA-21F4-427E-8D4C-5E69D02A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0C8-9756-4E51-BA2E-7364213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D84-81F9-4C0C-BCD3-329598F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14B-9CAF-45CB-BD28-518F77D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FBF-777B-443A-B8C2-BE4C5CC1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5791320"/>
            <a:ext cx="4038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day, February 9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Snow date:  Monday, February 23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:00 am – 2:30 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ttle Creek Multi-Purpos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665 Sewells Point 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folk, 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ester"/>
              </a:rPr>
              <a:t>Resident Awareness:  Mold, Milde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ester"/>
              </a:rPr>
              <a:t>Pest Control &amp;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ester"/>
              </a:rPr>
              <a:t>What’s the Conn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42900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what you can do to eliminate mold, mildew, cockroaches and other indoor asthma triggers to help prevent asthma attacks in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20120"/>
            <a:ext cx="6858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FREE!  Lunch will be served!  Transportation provi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your property manager for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ease do not bring children to this e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event is sponsored by Allies Against Asthma and local Housing Authorities throughout Hampton Roa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2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1905120" cy="174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342900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living in public &amp; subsidized housing communities are more likely to have problems with their asth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770600">
            <a:off x="297360" y="226656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GIFTS FOR EVERYON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54000">
            <a:off x="5140800" y="243828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PRIZE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127800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5867280"/>
            <a:ext cx="1380960" cy="17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28600" y="8389800"/>
          <a:ext cx="352440" cy="3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8389800"/>
                    <a:ext cx="3524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3720" y="86868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248520" y="8458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880740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lead agency for CINCH is the Center for Pediatric Research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 joint program of Children’s Hospital of The King’s Daughters &amp; Eastern Virginia Medical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4:24:58Z</dcterms:created>
  <dc:creator>Shelley Taylor-Donahue</dc:creator>
  <dc:description/>
  <dc:language>en-US</dc:language>
  <cp:lastModifiedBy>Shelley Stoll</cp:lastModifiedBy>
  <dcterms:modified xsi:type="dcterms:W3CDTF">2006-03-20T16:42:02Z</dcterms:modified>
  <cp:revision>20</cp:revision>
  <dc:subject/>
  <dc:title>PowerPoint Presentation</dc:title>
</cp:coreProperties>
</file>