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0AA7-B0CC-4FC1-BE91-8935A875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78AD-2D51-4CDF-88C2-6E7A5FA1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C0FD-46D3-4541-B958-B392CB4D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5E8-B401-4D16-8707-C256C75D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416-4F7A-4A57-BDBF-3508BFB5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E92-A927-4D9B-B0FD-EFF0289F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536-EE57-4C50-97D2-8D31979E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1F1-D449-41DA-86A3-3C0DD0DC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ABA-C780-4C6B-8326-6520FD53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987-ECCE-444D-AC69-2041E779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E91-B489-4CF8-8EAB-27D17B38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B74-13B4-41C6-9FDB-2F1DD9AD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922A-834E-40B9-AFD7-64C839475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914400"/>
          <a:ext cx="8763120" cy="536580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752480"/>
                <a:gridCol w="1752480"/>
                <a:gridCol w="17528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term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 _____________ _____________ 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6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459720" y="10666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5520" y="10666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94200" y="914400"/>
            <a:ext cx="12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409760" cy="782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2286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/Problem: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45240" y="91440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41360" y="914400"/>
            <a:ext cx="12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95280" y="152280"/>
            <a:ext cx="642960" cy="677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6361200"/>
            <a:ext cx="8686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he lead agency for CINCH and Allies Against Asthma is the Center for Pediatric Research, a joint program of Children’s Hospital of The King’s Daughters and Eastern Virginia Medical Scho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52280" y="1066680"/>
          <a:ext cx="8763120" cy="536580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752480"/>
                <a:gridCol w="1752480"/>
                <a:gridCol w="17528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term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 _____________ _____________ 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83400" y="12193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9200" y="121932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880" y="1066680"/>
            <a:ext cx="12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629400" y="208080"/>
            <a:ext cx="1409760" cy="78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93200" y="53352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/Problem  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69280" y="106668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5400" y="1066680"/>
            <a:ext cx="12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371600" y="236520"/>
            <a:ext cx="642960" cy="677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6477120"/>
            <a:ext cx="8686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The lead agency for CINCH and Allies Against Asthma is the Center for Pediatric Research, a joint program of Children’s Hospital of The King’s Daughters and Eastern Virginia Medical Scho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3:16:05Z</dcterms:created>
  <dc:creator>Robin Kreider</dc:creator>
  <dc:description/>
  <dc:language>en-US</dc:language>
  <cp:lastModifiedBy>Shelley Stoll</cp:lastModifiedBy>
  <dcterms:modified xsi:type="dcterms:W3CDTF">2006-03-20T16:38:29Z</dcterms:modified>
  <cp:revision>9</cp:revision>
  <dc:subject/>
  <dc:title>Slide 1</dc:title>
</cp:coreProperties>
</file>