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8F3-E4A6-4827-85FE-7E71C3FA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364-83CA-4E31-8F9C-CD7C046B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568-A972-4983-BC3A-FB75AA1E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B7A-8C04-45FC-8B3D-0008E822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9A9-17C3-4D8C-800F-051A5CBD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684-BD09-45B3-A4B0-BB0DBDB3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44E-0324-4026-8EDE-50C309EF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31C-7D52-490C-888F-7EB48975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C40-07FF-4433-9FDD-1E9EACA6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2AA-CA59-43D2-AA0E-0489E8DD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C19-E1D8-496A-8E77-68A901B9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385-A11B-4D88-94C7-B30AD2A4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CFC3-4E8E-4E4B-8A9D-8B40605F8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68580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Jester"/>
              </a:rPr>
              <a:t>Putting it All Together:  Creating a Plan to Reduce Environ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Jester"/>
              </a:rPr>
              <a:t>Asthma Triggers in Public Ho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Jester"/>
              </a:rPr>
              <a:t>Monday, April 26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229600"/>
            <a:ext cx="68580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event is sponsored by Allies Against Asthma and local Housing Authorities throughout Hampton Roa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4628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8389800"/>
          <a:ext cx="352440" cy="3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9800"/>
                    <a:ext cx="35244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53720" y="8686800"/>
            <a:ext cx="5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I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248520" y="8458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85345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he lead agency for CINCH is the Center for Pediatric Research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 joint program of Children’s Hospital of The King’s Daughters &amp; Eastern Virginia Medical Sch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590920"/>
            <a:ext cx="403848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chedule of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9:00 – 9:30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gistration/Continental Breakf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9:30 – 9:35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elcome &amp; Introd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Natasha Perki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Health Ambassador, Allies Against Asth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9:35 – 9:40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Sylvia Copeland-Murph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Newport News Redevelopment &amp; Housing Author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9:40 – 9:45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la Jackson – Langley Village resident, Hampt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Kathy Gooden – North Phoebus resident, Hampt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9:45 - 9:5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ce Break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9:55 - 11:10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ork on Action 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1:10 – 11:20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1:20 – 11:50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esentations from Each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1:50 – 12:00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losing &amp; Evalu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743200" y="1371600"/>
            <a:ext cx="1219320" cy="111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267080" y="4952880"/>
            <a:ext cx="1495440" cy="1514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2514600" y="7086600"/>
            <a:ext cx="157464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-joint_summit_agenda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4:24:58Z</dcterms:created>
  <dc:creator>Shelley Taylor-Donahue</dc:creator>
  <dc:description/>
  <dc:language>en-US</dc:language>
  <cp:lastModifiedBy>Shelley Stoll</cp:lastModifiedBy>
  <dcterms:modified xsi:type="dcterms:W3CDTF">2006-03-20T16:40:15Z</dcterms:modified>
  <cp:revision>30</cp:revision>
  <dc:subject/>
  <dc:title>PowerPoint Presentation</dc:title>
</cp:coreProperties>
</file>